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6A4-5DAC-405F-B0A3-7D6F9F01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B71-3F67-4A8E-97EA-3D0E7353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F47-0738-4524-AF8B-67EA1321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4C4-D7FD-4AFF-9CCC-99EE500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1FD-E89A-41FA-8A19-62E3A284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F7D-6E54-4C5C-8CBB-5F4D3C8F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9DE8-2079-4F48-A1AB-2CBFB2CD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ED17-47DC-407A-83E8-583D326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539-7926-479D-BBD1-61DCFE5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9061-F373-4BF4-A790-20DACCA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2CE-AA42-47C4-BF4E-AA4DF50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9FD-9223-42AB-8FA0-5D1EB0C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327B-DA30-4A2E-A3D5-41BE8CA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A3C-65BD-49ED-B3A5-06DC33A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BBE2-47FB-4BA9-B89B-327D53AF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E7CD-A17C-4023-B390-7E86D35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19E-927B-4BE2-9A8A-AE9EC631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792B-8C89-44E2-96F7-92451C32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5F7C-CE2E-4EDB-81DE-E72F479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80A5-0C32-434B-A301-BC7060E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0956-86DF-420E-A3EF-D4477674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D1A8-D922-45BE-A4FA-0C0A6F3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FCB-0737-485D-B502-4511BBC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623D-DCF3-49C6-B140-EB63E12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8D67-F334-48AA-A21E-03C5818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DB0E-905F-4BC7-B83C-B27C8AA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877A-C45D-445D-967A-B02574E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207A-F1E4-40D1-AD28-32B7E68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F5DB-675E-425D-A6EA-62B80021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60A5-17C4-431C-91B5-49003682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418B-EC18-415C-B2CD-02AEB0E5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B4EF-7B4C-49A8-94F3-2A62FB7F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6F1B-D529-4973-86F0-488BFCE6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F6F-3297-4F10-BCA2-B2F5A0FA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4A88-E331-4A5D-AD27-AF9967B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84D2-363F-4F8E-A8DC-0F1A01D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362A-3617-4A7E-936B-BE109B0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1E63-5274-4F13-B456-5F255B5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EF79-7E9A-4F5F-ADC4-C2108CD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9B0E-7DEB-40D5-BB36-E788FB7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F12F-DBF0-4568-A94A-EBC0AE8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71AF-DD9B-4135-B943-73C1E8F2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4C11-51E9-4410-B274-16FD3C3E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1B812-546F-4E27-A9DF-66AE67B1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4D4-89BF-4BC4-957D-38A8E42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BDAB-B8EC-43D1-BC68-2F097EE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2835-FDBC-42C2-94A5-E95A08A1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B1D67-7ECF-4745-86F8-0D0A15E6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B167-E290-4110-B190-868BD174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89A8-E0B8-4988-87A3-2760BDAF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31EF-11CF-4E65-8BC9-9945799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85EA-4AA3-4BBF-A2D0-481DFAD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82F1-97CA-4784-BC0C-C6A260F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E3C1-E8D3-43E8-B9F0-E0CDA8C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85BF-73B6-4AB6-9A88-7233FC83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A11-AE41-47DC-B0FA-0A77D923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B8E2-5F9D-4A23-AA9F-934B8DD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ED9F-D0E0-425A-B134-3351356C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A3B7-63FB-4BFC-BD08-1547A5CF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623D-E46D-43D7-BD37-3BD845B7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B5580-FB0D-4C94-9EC6-CDD6ACC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4608-3D53-4476-9891-B3DB179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1003-671B-4901-8169-EC26E9A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772F-9555-48C4-84BD-FE61C63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8EB3-B629-474B-9D70-EDFF25A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8480-B248-471C-9FE5-F855B79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256-2711-4918-B2FC-7A1ABD5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4E37-D765-42C3-9A34-9FE825C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7B39-CADD-42F7-B426-3E82567A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E0CC-DCC1-40DE-B665-F8DD31E9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94B0A-F023-49EF-BFCD-A3CCC22A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3554-8459-409A-A67F-A56D515D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D218-5F47-4015-9EF9-10718AF0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C125-D342-43C4-ABE6-200EBE57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BFD5A-4A60-45E9-A091-B0005E1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C92C-F578-440B-B966-A6C7805F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87E8-48F4-4E98-9D60-96093747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135-F472-4A35-A75C-DCCA358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4CD6-D451-41F6-936F-0FAAF47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8615-5BEB-4818-912C-E4F8414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6B0C-7FE9-4511-B490-6A64389F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3F9A4-DC08-46A2-92E4-6F5D42E4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D715-39BD-4948-BC04-F0EF8D13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EA6B-6FDF-457F-B108-B30EA668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DBCF-139D-48DD-B106-FD4AC01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6F7F-F5C6-424D-9685-24839D84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FA07-B10C-47FA-BF6A-4BA2640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B78D-918D-4CF2-BF4C-6629C94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1A2-006D-46EE-A67C-BD7EAF7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4C6D3-FA6F-40B0-8A84-AFC9C8B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D438-05D5-4C7C-8833-CF77B67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9B5EF-05C2-471B-98D5-EA748DB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179BA-E6FF-436F-98A7-5219A10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51EE-291B-4CFB-BE0A-CCEE17CE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4867C-04E1-4B5C-A369-90882A03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7ACE-8998-4E13-AE8B-8DE9A4BD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4E7-F99A-455F-B93E-5ED53C392D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D7F-3D9D-438A-8B27-91479BFA22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CC5-C345-484A-B891-76EA21A4E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CBB-76B7-4409-AD6F-086002C35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3DCF-0E4E-4F1E-BCFF-0514474FEC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43A4-76B1-4525-B814-69802D3162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8E24-EBAB-4761-8FAC-0EC6835DF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D58-16C9-49DD-B3AC-83AEE9C2D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Mansi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ó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 es Magn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í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ica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Claire Cush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743200" cy="1763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an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733920" cy="2421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99072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nsion es fabulousa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es estupendo, grande, y 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962520" cy="221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 es fantas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 es asombr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2851200" cy="317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 es impresionante 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367080" y="2481120"/>
            <a:ext cx="2409840" cy="1895760"/>
            <a:chOff x="3367080" y="2481120"/>
            <a:chExt cx="2409840" cy="1895760"/>
          </a:xfrm>
        </p:grpSpPr>
        <p:sp>
          <p:nvSpPr>
            <p:cNvPr id="454" name=""/>
            <p:cNvSpPr txBox="1"/>
            <p:nvPr/>
          </p:nvSpPr>
          <p:spPr>
            <a:xfrm>
              <a:off x="3367080" y="2481120"/>
              <a:ext cx="2409840" cy="189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034240" cy="395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es fabulos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666880" y="3143160"/>
            <a:ext cx="2819520" cy="2111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uarto es antiguo y estupe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505320" cy="235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rdin es ma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o y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105520" y="44956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incre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124080" cy="207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38Z</dcterms:created>
  <dc:creator>cushmancla</dc:creator>
  <dc:description/>
  <dc:language>en-US</dc:language>
  <cp:lastModifiedBy>cushmancla</cp:lastModifiedBy>
  <dcterms:modified xsi:type="dcterms:W3CDTF">2011-10-28T12:44:28Z</dcterms:modified>
  <cp:revision>12</cp:revision>
  <dc:subject/>
  <dc:title>La Mansion</dc:title>
</cp:coreProperties>
</file>